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2600" y="744480"/>
            <a:ext cx="4957560" cy="371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8FE24B-D0C1-46B7-AA2D-06FE3006C17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E496B6-CF69-443B-9853-5FD6449F448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BE31F3-3894-482E-8AEB-26448A1F989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8B924B-9FB9-4827-ACDD-481C32EAF2F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4D2E55-F272-42DD-9457-887239BD8E3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981A-60F4-4CE0-8516-DD8E9D449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3EEA-1F2D-4728-9698-A54014EF5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660C-C604-4D3C-A57B-B63211CEE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2A04-47E4-49D9-B525-6CABD236E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A9A1-7F2E-4C0C-84BF-277CA1630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2E01-7BD7-450C-8EE7-E1272301A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ED07-4071-40A8-ACB5-ED37E883F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6E8D-9CCE-43A5-8DCC-11B05AD42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8FC8-9046-4D88-83C6-B87EE689B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5465-4E00-4483-A592-E69EADB9E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80F9-71C4-47A2-A92D-C343981ED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40A3-649B-496F-A686-47E88A2C0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47000" y="6579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FCF6-9C93-4A24-BD52-5B9E3D549F00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914400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079"/>
          <p:cNvSpPr/>
          <p:nvPr/>
        </p:nvSpPr>
        <p:spPr>
          <a:xfrm>
            <a:off x="0" y="31240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тоги взаимодействия бизнеса и власти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и подготовке «третьего антимонопольного пакета»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 направления дальнейшего совершенствования законодательства для развития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1692360" y="2023920"/>
            <a:ext cx="74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ФЕДЕРАЛЬНАЯ АНТИМОНОПОЛЬНАЯ СЛ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0" y="5791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0" y="601992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г. Москва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971440" y="1066320"/>
            <a:ext cx="6172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становление фиксированных административных штрафов за злоупотребление доминированием, не связанное с ограничением конкуренции (за исключением субъектов естественных монополий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репление особенностей смягчающих и отягчающих административную ответственность обстоятельств для юридических лиц за нарушение антимонопольного законодательства, а также порядка их учета при определении размера «оборотного» штрафа для юрлиц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4320" indent="0">
              <a:lnSpc>
                <a:spcPts val="2299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43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E530-65DC-4AEB-9023-BA806146963D}" type="slidenum">
              <a:rPr b="1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r">
              <a:lnSpc>
                <a:spcPct val="9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сновные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91960" y="1225440"/>
            <a:ext cx="26164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28600" y="0"/>
            <a:ext cx="89154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льнейшее развитие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CE18-F382-451E-ACDB-896D0C665EA6}" type="slidenum">
              <a:rPr b="1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71520" y="2084400"/>
            <a:ext cx="2384280" cy="35114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1905120" y="1981080"/>
            <a:ext cx="723888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428840" indent="-5144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Arial"/>
              </a:rPr>
              <a:t>Закрепление механизма утверждения и  опубликования правил торговой практики для хозяйствующих субъектов, занимающих доминирующее полож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Arial"/>
              </a:rPr>
              <a:t>Уточнение перечня запретов,   применяемых к «вертикальным» соглашени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2860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Что не удалось реализовать и требует дополнительного обсуж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895120" y="1447920"/>
            <a:ext cx="6248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пределение особенностей контроля за экономической концентрацией, осуществляемой субъектами естественной монополии (унификация Закона о защите конкуренции и Закона о естественных монополиях)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вершенствование механизма предоставления государственных и муниципальных преференций (переход от предварительного согласования на уведомительный контроль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28600" y="0"/>
            <a:ext cx="89154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льнейшее развитие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83C9-6D5B-4E0A-A565-E0DCD6CC27C0}" type="slidenum">
              <a:rPr b="1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guy c wrench.jpg"/>
          <p:cNvPicPr/>
          <p:nvPr/>
        </p:nvPicPr>
        <p:blipFill>
          <a:blip r:embed="rId1"/>
          <a:stretch/>
        </p:blipFill>
        <p:spPr>
          <a:xfrm>
            <a:off x="66600" y="1457280"/>
            <a:ext cx="27734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8AA3-C9EE-44E0-B738-1A92EC4505F3}" type="slidenum"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3048120" y="1752480"/>
            <a:ext cx="60958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точнение поводов к возбуждению уголовных дел по статье 178 УК РФ (после решения антимонопольного орга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одательное определение механизма взаимодействия антимонопольных органов и органов внутренних дел при проведении оперативно-розыскных мероприятий по фактам нарушения антимонопольного законод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28600" y="0"/>
            <a:ext cx="89154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льнейшее развитие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Fotolia_10056608_XS.jpg"/>
          <p:cNvPicPr/>
          <p:nvPr/>
        </p:nvPicPr>
        <p:blipFill>
          <a:blip r:embed="rId1"/>
          <a:stretch/>
        </p:blipFill>
        <p:spPr>
          <a:xfrm>
            <a:off x="139680" y="1305000"/>
            <a:ext cx="29210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1066680" y="144792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СПАСИБО ЗА ВНИМАНИЕ!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2806560" y="2438280"/>
            <a:ext cx="4705560" cy="2362320"/>
            <a:chOff x="2806560" y="2438280"/>
            <a:chExt cx="4705560" cy="2362320"/>
          </a:xfrm>
        </p:grpSpPr>
        <p:pic>
          <p:nvPicPr>
            <p:cNvPr id="149" name="Picture 5" descr="FAS-logo-color.jpg"/>
            <p:cNvPicPr/>
            <p:nvPr/>
          </p:nvPicPr>
          <p:blipFill>
            <a:blip r:embed="rId1"/>
            <a:stretch/>
          </p:blipFill>
          <p:spPr>
            <a:xfrm>
              <a:off x="2971440" y="2438280"/>
              <a:ext cx="5778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6" descr="14098_427100966728_20531316728_5146316_6182604_n.jpg"/>
            <p:cNvPicPr/>
            <p:nvPr/>
          </p:nvPicPr>
          <p:blipFill>
            <a:blip r:embed="rId2"/>
            <a:stretch/>
          </p:blipFill>
          <p:spPr>
            <a:xfrm>
              <a:off x="2971440" y="3276360"/>
              <a:ext cx="5778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7" descr="twitter_newbird_blue.png"/>
            <p:cNvPicPr/>
            <p:nvPr/>
          </p:nvPicPr>
          <p:blipFill>
            <a:blip r:embed="rId3"/>
            <a:stretch/>
          </p:blipFill>
          <p:spPr>
            <a:xfrm>
              <a:off x="2806560" y="3962520"/>
              <a:ext cx="9079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8"/>
            <p:cNvSpPr/>
            <p:nvPr/>
          </p:nvSpPr>
          <p:spPr>
            <a:xfrm>
              <a:off x="3738240" y="2514240"/>
              <a:ext cx="360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99"/>
                  </a:solidFill>
                  <a:latin typeface="Arial"/>
                </a:rPr>
                <a:t>www.fas.gov.ru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9"/>
            <p:cNvSpPr/>
            <p:nvPr/>
          </p:nvSpPr>
          <p:spPr>
            <a:xfrm>
              <a:off x="3738240" y="3286800"/>
              <a:ext cx="360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99"/>
                  </a:solidFill>
                  <a:latin typeface="Arial"/>
                </a:rPr>
                <a:t>FAS-boo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0"/>
            <p:cNvSpPr/>
            <p:nvPr/>
          </p:nvSpPr>
          <p:spPr>
            <a:xfrm>
              <a:off x="3738240" y="4038480"/>
              <a:ext cx="377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99"/>
                  </a:solidFill>
                  <a:latin typeface="Arial"/>
                </a:rPr>
                <a:t>rus_fa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12" descr=""/>
          <p:cNvPicPr/>
          <p:nvPr/>
        </p:nvPicPr>
        <p:blipFill>
          <a:blip r:embed="rId4"/>
          <a:stretch/>
        </p:blipFill>
        <p:spPr>
          <a:xfrm>
            <a:off x="2881440" y="480060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1"/>
          <p:cNvSpPr/>
          <p:nvPr/>
        </p:nvSpPr>
        <p:spPr>
          <a:xfrm>
            <a:off x="3733920" y="481824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120280" y="4038480"/>
            <a:ext cx="233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/ fas_rf (e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ретий антимонопольный пакет»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71440" y="121932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едеральный закон от 06.12.2011 № 401-ФЗ «О внесении изменений в ФЗ «О защите конкуренции» и некоторые другие законодательные акты»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едеральный закон от 06.12.2011 № 404-ФЗ «О внесении изменений в Кодекс Российской Федерации об административных правонарушениях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CF59-7FAC-4FDB-9BE6-5A89A0E5D664}" type="slidenum">
              <a:rPr b="1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556000" y="1700280"/>
            <a:ext cx="658800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907920"/>
            <a:ext cx="883908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291960" y="1682640"/>
            <a:ext cx="26164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429000" y="228564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спользование биржевой цены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спользование ретроспективного анализ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спользование мировых индикаторов цен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1074-BB31-4723-BD8A-3B6513337C2E}" type="slidenum">
              <a:rPr b="1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556000" y="1700280"/>
            <a:ext cx="658800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80880" y="1676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Уточнение критериев монопольно высокой ц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1"/>
          <a:stretch/>
        </p:blipFill>
        <p:spPr>
          <a:xfrm>
            <a:off x="371520" y="2292480"/>
            <a:ext cx="3073320" cy="2388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r">
              <a:lnSpc>
                <a:spcPct val="9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сновные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D766-E84E-4C5F-B785-A32931CA19A5}" type="slidenum">
              <a:rPr b="1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3276720" y="2133720"/>
            <a:ext cx="571500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сокращение перечня безусловных запретов (</a:t>
            </a:r>
            <a:r>
              <a:rPr b="0" lang="en-US" sz="2400" spc="-1" strike="noStrike">
                <a:solidFill>
                  <a:srgbClr val="2d2d8a"/>
                </a:solidFill>
                <a:latin typeface="Arial"/>
              </a:rPr>
              <a:t>per se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) и распространение их только на карт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исключение уголовной ответственности за согласованные действия, а также за </a:t>
            </a:r>
            <a:r>
              <a:rPr b="0" lang="en-US" sz="24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«вертикальные» согла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уточнение понятия запрещенной координации эконом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r">
              <a:lnSpc>
                <a:spcPct val="9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сновные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380880" y="1143000"/>
            <a:ext cx="88394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Уточнение требований к антиконкурентным соглаш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291960" y="2292480"/>
            <a:ext cx="2853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580920" y="2209680"/>
            <a:ext cx="5334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гласованными признаются действия хозсубъектов, публично заявивших о планируемом поведении на рынке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водится минимальная доля товарного рынка, которую должны занимать участвующие в согласованных действиях хозсубъекты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ts val="1998"/>
              </a:lnSpc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ts val="1998"/>
              </a:lnSpc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CCD5-669F-4024-BE28-D70A02C957EB}" type="slidenum">
              <a:rPr b="1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304920" y="11509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Уточнение требований к согласованным действиям хозяйствующих субъ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1"/>
          <a:stretch/>
        </p:blipFill>
        <p:spPr>
          <a:xfrm>
            <a:off x="341280" y="2219400"/>
            <a:ext cx="3176640" cy="24620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r">
              <a:lnSpc>
                <a:spcPct val="9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сновные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742840" y="106668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5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репление права Правительства определять правила недискриминационного доступа к объектам инфраструктуры товарных рынков в сферах естественных монополий, а также к товарам, технологически к ним присоединенным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67480" indent="-267480">
              <a:lnSpc>
                <a:spcPct val="95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едоставление антимонопольному органу права направлять предостережения должностным лицам хозсубъектов, публично заявляющим о планируемом поведении на рынке, если такое заявление может привести к нарушению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674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3965-78F3-4374-A947-C3855711CC65}" type="slidenum">
              <a:rPr b="1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r">
              <a:lnSpc>
                <a:spcPct val="9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сновные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reklamnoe_pismo.jpg"/>
          <p:cNvPicPr/>
          <p:nvPr/>
        </p:nvPicPr>
        <p:blipFill>
          <a:blip r:embed="rId1"/>
          <a:stretch/>
        </p:blipFill>
        <p:spPr>
          <a:xfrm>
            <a:off x="133200" y="1152360"/>
            <a:ext cx="254952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743200" y="14940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  <a:ea typeface="Arial"/>
              </a:rPr>
              <a:t>Исключение уведомительного контроля за соглашениями финансовых организаций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  <a:ea typeface="Arial"/>
              </a:rPr>
              <a:t>Установление прямого запрета на установление и взимание органами власти и местного самоуправления платежей не предусмотренных законодательством РФ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r">
              <a:lnSpc>
                <a:spcPct val="9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сновные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371520" y="1530360"/>
            <a:ext cx="2311200" cy="2309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43D3-2BF2-4717-82C6-FF169BDC3AEE}" type="slidenum">
              <a:rPr b="1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91960" y="1378080"/>
            <a:ext cx="2511720" cy="2998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CD66-6D82-44D9-990C-512DBE338B36}" type="slidenum">
              <a:rPr b="1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895480" y="1219320"/>
            <a:ext cx="624852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Уточнение порядка предоставления государственного и муниципального имущества (статья 17</a:t>
            </a:r>
            <a:r>
              <a:rPr b="0" lang="ru-RU" sz="2400" spc="-1" strike="noStrike" baseline="30000">
                <a:solidFill>
                  <a:srgbClr val="2d2d8a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), в том числе исключение обязательного проведения торгов при заключении договоров субаренды имущества лицами, получившими такое имущество на тор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Закрепление механизма административного обжалования торгов, проведение которых является обязательным в соответствии с законодательством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r">
              <a:lnSpc>
                <a:spcPct val="9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сновные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2B62-77C3-4784-9904-DDF6240F3E0E}" type="slidenum">
              <a:rPr b="1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733920" y="1752480"/>
            <a:ext cx="556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3720" indent="-4237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ведение механизма «предупреждения» для нарушений пункта 3 и 5 части 1 статьи 10 Закона о защите конкуренции, исключающего административную ответственность при исполнении «предупрежд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r">
              <a:lnSpc>
                <a:spcPct val="9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сновные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6600" y="1835280"/>
            <a:ext cx="36464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3:59:35Z</dcterms:created>
  <dc:creator>Нагайчук Е.Г.</dc:creator>
  <dc:description/>
  <dc:language>en-US</dc:language>
  <cp:lastModifiedBy>FAS</cp:lastModifiedBy>
  <cp:lastPrinted>2010-03-02T18:14:00Z</cp:lastPrinted>
  <dcterms:modified xsi:type="dcterms:W3CDTF">2012-02-09T08:32:56Z</dcterms:modified>
  <cp:revision>1052</cp:revision>
  <dc:subject/>
  <dc:title>Слайд 1</dc:title>
</cp:coreProperties>
</file>